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0D8F-9401-45BE-A369-6B5E18B5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8A21-1369-4749-B058-57A9D5FC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A6A-D579-49AD-B35A-A453C74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512-CBF7-44EC-BCDA-BC16CCEE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82F-D119-484A-AF3F-B2BEC54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9A5-F07B-4715-8880-E8B0C841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42D-ACC4-4F72-83F5-CE3A51CD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9FE-7DBA-46DD-9CBA-A075D6B7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B8C-45EA-4E0D-AF1F-82CF5D4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7F8-D05A-4139-9A69-53BE14EB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57D-8D1F-4FDA-8992-002960D1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F59-0248-479C-977B-69255B8B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88FD-BD8E-4A50-9B34-E18A83458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828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E-mai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l- Electronic mail which allows individuals with AN ACCOUNT TO SEND MESSAGES TO ANOTHER PERSON WITH AN E-MAIL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IRC-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NTERNET RELAY CHAT WAS DEVELOPED IN 1988 BY JARKKO OIKARINEN AND ALLOWA INSTANT ONLINE COMMINICATING WITH SOMONE ELSE WHO IS ALSO ONLINE BY TYPING MESSAGE BACK AND F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BBS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-BULLETIN BOARD SERVICE ALLOWS A USER TO PARTICIPATE IN A DISCUSS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HTTP-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YPERTEXT TRANSFER PROTOCOL IS USED FOR HANDLING THE TRANSMISSION OF PAGES BETWEEN A WEB SERVER AND A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FTP-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FILE TRANSFER PROTOCOL IS USED TO RAPIDLY TRANSFER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TELNET-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A PROGRAM USED ON NETWORKS SUCH AS THE INTERNETTO ALLOW USERS TO RAPIDLY TRANSFER F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GOPHER-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ONE OF THE FIRST WIDESPREAD INTERNET BROWSING SERV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INTRANET- 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A NETWORK USED BY A SINGLE ORGANIZATION AND ONLY ACCESSIBLE BY AUTHORIZED US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FIREWALL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 NEWORK SECURITY SYSTEM THAT PREVENTS UNAUTHORIZED NETWORK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tranet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n extended intranet that provides various level of access to authorized members of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Online profiling- 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a marketing technique that collects online data about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ookies</a:t>
            </a:r>
            <a:r>
              <a:rPr b="0" lang="en-US" sz="2400" spc="-1" strike="noStrike">
                <a:solidFill>
                  <a:srgbClr val="9933ff"/>
                </a:solidFill>
                <a:latin typeface="Arial"/>
              </a:rPr>
              <a:t> – small files that contain information about the web sites and individual has 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Usenet-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collection of servers that offer netn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andwidth-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the amount of data and the speed at which the data can travel over the transmission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a computer that accesses a server to request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Ethernet-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widely used protocol for lans that uses a bus or star topology and connects the network devices by twisted-pair wiring, coaxial cable ,or fiber 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Netiquett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-  the etiquette that should be followed when using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opo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ireless network-a type of network that does not require the use of c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etwork interface card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ircuit board that goes into the base unit of a computer or other device in a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internet service provider is a company that offers access to the internet foe a 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eb site – a series of related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resha Jenk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eri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il 17,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4:55Z</dcterms:created>
  <dc:creator>763428</dc:creator>
  <dc:description/>
  <dc:language>en-US</dc:language>
  <cp:lastModifiedBy>763428</cp:lastModifiedBy>
  <dcterms:modified xsi:type="dcterms:W3CDTF">2009-04-17T16:05:56Z</dcterms:modified>
  <cp:revision>3</cp:revision>
  <dc:subject/>
  <dc:title>Vocabulary words</dc:title>
</cp:coreProperties>
</file>